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F88-FD5C-49A6-B1EF-D974A3FE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5FB-CDC1-4251-8017-66EFE8E0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0276A-3585-4DB7-A965-ED44219B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3E711-63A8-44F4-9AA1-7B401499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DD935-B6C6-4B14-820A-DC08222C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670EB-D12C-427D-8380-88A401DA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318BF-80E1-4713-9104-9C0474B0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927C7-A440-4CDB-BE1B-13EDEA4F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FFDB2-648B-43F6-B142-9730CC45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CC71C-F300-4D81-8E8B-80F9E563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3AEE4-60DF-4348-81DE-BFB5B083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B0B1F-1F60-4982-8D85-A99548F1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5B2-243B-49EC-AF02-FB5721EB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34EE2-3F15-4A65-AA0A-269E19D0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4D734-BA07-4A0A-ACC5-37B3933B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BBC7C-6F82-448B-A55C-B9DF9D2F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70B78-4CB5-4D26-B92D-917EF302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99F78-2427-416E-ADB8-5216B8F4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DD1E2-6551-402B-8672-5D4CA6D2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86123-3A1F-438C-9150-8FED4A33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038CB-90DD-4A8C-AD9B-C0C9A9D6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C4BCA-893F-429C-A05E-4FA5AA3E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2FF7F-58E2-453E-A84D-BEECE003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2B0-481E-440F-92ED-5DDE96A8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95AFF-1178-4D3E-9D61-2F203D0C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B17BD-2530-4C61-B625-BD11A041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33547-78AA-497E-A221-DFEA2DA1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38804-2DF4-4BA0-91FA-9655606D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8A26D-4C3A-4353-AC4C-FA4CC725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F9B60-B3F2-4527-8DB3-DA1EEBAB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B3551-00E0-48E6-9940-E16A0197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3ED63-5A00-44FA-8583-93B6ACB8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BBBBA-AF10-41EA-9513-5D3D53EF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DAD85-2378-4ABD-BF60-49836434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66CB-ABDC-4812-9957-7DBA06DE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114C8-12B0-4B6C-B11A-0B3E14F6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585F8-0379-469B-AEFB-405CFE15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5983C-5CF6-46BB-BD4E-A0163A41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D3D47-5147-4E1C-A875-A50F5044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5A870-2E26-4DBE-914C-06D7F6A4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21199-719F-41B3-A1ED-A3845FBB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05C6B-56D0-4A0B-9795-832D554A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FBCCF-06E6-4552-8B73-2B4D9CE8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F0389-F030-4EAC-AFDB-FC23EEEB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660F9-724B-454F-8CC5-863F4448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89C2-3918-4745-BF9B-8FDB4058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58888-9561-4D49-BE7B-045F4108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DB256-856A-4AEC-83C0-40014695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DF680-3AD3-4B9B-9D52-84AE7608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467EF-2908-4013-AEC3-C279FD8F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28659-444B-4484-9376-890334A8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E9C18-4204-4BE0-BC3E-07A2D5EC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19521-D169-425C-88BB-4D99121E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1632A-3264-47FD-B056-B7B06878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6295DA-29DD-498A-8268-D3947A52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08EA5-0347-4022-A047-DB2C35C2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FA7E-A191-4B22-8F44-69970D7B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EC6AA5-BD8C-4A26-B322-28538F58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70998F-599A-44BF-BE1D-E59E4E60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A0732-D747-426F-9E65-E29FB358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95EBF-CAA9-4D16-97FB-49A78BE3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C4423-8380-480A-AE1B-EE207D1B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07F85-4B59-4693-AC05-537D46D9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AA166-3899-47E2-959B-482A96E9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DC784-60CB-4B45-AB0F-D4C8CDA9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0699DB-B4CE-4F31-9108-BB993A4E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1C3DA0-0F0F-4CA0-BD7A-ACFF7405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C9F8-90FB-499B-9E89-67B39882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73E0C2-D605-4689-A868-9979F1A3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2CF93-CFE5-4EFE-84F8-26F8ECAD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6A3D5-9266-4C75-9DC1-89DFAAFD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84CD8-88D9-4CFC-98BF-0C0C4D11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27726-B116-48DF-AF7F-136813B8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3CEC9-7E2F-4EF7-A701-18A15887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E3CD96-B262-47AE-B941-2C4CF23E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67351C-39E0-4D2A-B5B1-33C69335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869D36-1EEB-448B-93E6-32443781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DC3352-DF7E-4EBF-91BF-EF1A863A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29B3-B969-43A8-A29B-44B05171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008CC8-AB27-4B91-9A61-B5006CDE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446AA4-26E7-4B69-BD4C-6927AE86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193368-D61F-49C8-B40A-69EDA4E5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059706-3C73-496C-A8F5-D9DB4726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FC17E1-C9A4-400C-8C94-A7E4B12B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B7F599-E60D-4298-B7CA-08889BDC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4CDFA2-37CA-448A-B6DE-7D25B79C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992E0C-A311-4051-9A57-37797C71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0AE26E-0B8D-4D05-BB5C-D19DEC45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4AB84C-3960-44C3-B415-9887B1AC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B91F-91B7-4F76-868A-B170246E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F6F6BA-BCE8-475D-AA6A-29A72856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761D6F-FB82-45C1-9923-8B59CA04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DEF51-4181-473B-8A84-61CDA67B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2A71E9-6C58-4B16-9081-30096141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85A32E-8D4A-4B2D-8BF0-7384AAB6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CEEF3-091C-4665-979D-F51BA131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57597E-D15F-45EC-9DC5-27C824E7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CE11D4-6483-4F00-8CDB-9EDD80C3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998320-751C-40CD-8A5D-BAD0D4A7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2FC834-574C-44A9-8D17-6B5D3943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3AFB-9398-4269-A23F-CDEAA241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9E2025-1779-4717-ADF1-9911DEEB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FC7EC7-F924-4D90-B408-52F1A654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7198FD-BA5F-4D1D-B4C8-7077FDE2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39CBEB-8121-4AC9-9B73-E688E6BE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6BC6C-8C76-438E-9059-2CA63C1F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6071A3-FF27-47A3-BC78-D96A5730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535B15-1833-4610-8DB1-4DC6E6F0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C1D50-D3BD-487B-9B14-9B876ED0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78AD02-9DB6-4582-BB66-5D2FCB24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C2E221-1C00-4801-8354-EEEAEB46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8B2-3853-4381-9F8D-54B2D70E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B1F9-6461-459F-BF25-63E8C30B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87C87A-12D1-4AFC-BB90-4339E2DC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4CB176-4E4F-4F27-8D89-81C362AE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973AFC-9DCF-48D5-BA41-9F509DE1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F4D6BB-210C-49D0-8F82-F9629950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0D0902-670A-4910-80D7-92FC0D36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0F1AE2-DD13-49E4-AE69-E0F99D05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C17150-7765-46B6-BCD3-6B2FDE66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57FE83-9C15-4733-A21B-8EC68EDB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5C2041-8DDB-4D57-94EF-60E9DBAB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516F51-735E-4989-B9BC-B26EF249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B54A-A49F-492E-874C-86490AE7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93840F-F472-4F46-B173-D0A5968C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9CF002-FE58-4F11-8CA5-68093733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956829-DDCD-480D-B28B-30051698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39EAE-0133-4CF7-8149-DD126EE6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134B38-586F-4650-932C-6B51EC52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5BF643-518A-4929-9FD8-FA16EF82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30F139-03A8-490F-8955-C381D771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63F6A7-625B-41A1-83F6-67937E45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A29583-2132-46A3-8BB7-99FBD3D5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8304D5-F569-4D09-B98E-A2013320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A5FE-C069-497F-8EA4-0CA2383B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B6B9DA-421E-498B-85D3-39C35E13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C7A6E6-50A7-4DE9-A91B-98497579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1C2FD8-240E-45F0-87ED-8C4E7475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448F32-01B7-45FB-904B-96CDF7AD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D332B9-F546-46CD-B1A7-C3FAB496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FEFADD-2B2D-4A8D-A34F-F4A73F54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C5AD7D-FD6F-4A63-A40E-FD71C7A2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E8ABA4-A0F3-43A8-98FE-4496E91A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7B1803-4BEA-4964-8E7C-0CAD09BF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E2FC1D-D129-4240-B9FC-D979232D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52A1-2239-43D3-B1D1-095E9B8C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A5617F-0571-48A3-901D-0DED38AB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F5F887-E334-4294-9B12-5F31733A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B5D32C-D7D7-4A01-A2D7-F7CD29FB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0C8320-CF57-4A17-9E6B-DCC9B8A0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C5BED0-2E46-4769-8390-2BB3F309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95911A-8B85-441F-A055-8E06B531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BA5B15-68DB-4EDD-AA6C-E13DB40D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D5E70C-BAA2-446F-8CC5-8A12A11E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4935AD-EB4E-4F0A-8FA6-901226BC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924FB5-EE40-460B-A602-9C1A0F8E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89EB-CA59-4599-88A9-F8A0883F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69DF66-3401-44A9-BE28-5BC9B1CB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6D6B7D-0B0B-45CB-9F2B-E4138D43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F4817C-CE6D-43DF-B4CB-C523C824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35CF5A-BF4B-4C09-A5C3-2D8AE02F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7A53EE-33CC-45A6-8FA0-8C8D242F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BCD592-E7C3-45AC-A325-CFECB5AD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BD60E3-8A41-4637-A4A6-7383819B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70D903-3900-4116-AB65-8B37BDE8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BBBCD9-0707-4A29-8D98-187F7FDB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F5877D-99EE-45F8-8771-72ED1142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E4206-59DB-4B38-A3DE-F3367E07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03B608-EEC8-488C-B98D-57D6161E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732BA5-5E87-4145-8233-1A7C9359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4885C7-B2A7-420C-802B-ABC93795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68639-6808-46B7-B48F-01F8A62B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54A16-D5F3-4E50-9267-B625238A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50AF6-3ECA-4DBC-B3F5-E6A9D4E9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44FEF-03C4-4A74-B212-C4645DA8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C94-D082-49A8-AE79-27BB563F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215F6-4757-4973-9D13-4AE415D3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4DCAD-D296-486A-9ED4-0BE803AB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D242B-24EB-400A-9976-071143EB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20AAF-3B5D-4A3D-9FD8-9B849975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842A-6C53-47AE-A011-F9C89C2B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C6D08-A65F-4BA0-9E62-DBB39E13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D7392-6214-4034-84EA-1A7CC884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D69AF-A966-4D2F-BF32-E49535BA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603A0-9579-4417-983F-075EBA6E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20378-0EFF-43FB-9B18-0148BCD1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E80-71CD-4369-BC66-68A99673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1E2C3-F530-4409-94A8-D47165BA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B118C-A7CA-4D58-A250-D2D3A518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E1135-CEDC-4038-90EC-E9C0A743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ABFD4-548C-4B61-8AF8-D03DA006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63E09-4703-4B21-8399-2BE0A9CB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FFCBD-66F6-41E4-80AE-C3F49AE0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3A39C-8C2E-4514-B30F-CFD7D13B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6690E-8C81-4739-B011-8A23B62D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CADFA-DC19-456D-9BAF-16B994C8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C9A59-7279-4299-9213-920460C1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879-3CC5-4EDF-907B-C5DD0766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5D07F-2F7B-4D84-B338-CDBFC284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752CF-2482-4F75-99C6-856E65DB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3AF1B-4C00-41CF-AC0D-FEE2AEF1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0A632-7DEE-44A9-B7BD-774A8C5E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F73FD-D9EE-4218-A24D-95325EBA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727AB-A76C-447A-8F4D-D3C7AC07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18EA4-8980-4B49-99E3-DA967100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4D90B-1929-4E15-B22B-1B3DE46D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07E11-7FE1-47E3-8383-F9F776B7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B1C73-160F-4E62-BC0C-933411D1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42D-0AE4-49F2-9FED-785F8DA5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E5A0A-6D66-49A0-A8E6-A4494B90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0B7F2-9C7B-4930-B670-5B756B5A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8E688-D281-4713-AEBC-BD57393E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F4F66-8F30-4A15-BC1A-2A9B2A92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4175B-ADEF-4E73-A16A-CA20D457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C0F97-DE6F-426A-83D8-F7B72BA5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011E2-FA73-477E-A0EE-F7DC9CED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A3265-F86B-4933-BFD2-B046C3FD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F6161-2D65-4091-9687-95069459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B500A-2941-41EB-864E-716F1FE0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C17-DAA6-4646-A84B-6801E62D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3A633-16B1-4A20-B4B4-1FAAA3BE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5A1A1-0C37-4006-9781-17E50835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50199-A164-4C78-BDDA-A36A3A07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F926B-4876-47B1-B85C-132B4AD7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A0639-DA8F-40E3-889C-1974B161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F3796-B0FA-4D9B-9673-E94CEFFB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316D5-E864-4C6C-8BB1-9888BFB9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EB16E-CA67-49BB-A5A7-84FFACA7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98BC7-E273-46DB-88B9-A5FADB6E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C284A-CD8A-4038-96E8-B75B4214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FCF-89B4-4F9A-A7DE-77EBD20B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4FFBB-8672-478A-B17E-A31FCE6B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16FDA-D525-476A-A8E5-DBCA9B8F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6E0E9-9051-4C14-AE6F-C33FE07A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5E951-8DEE-4973-B0C1-AD4454CA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64C64-6614-4433-853D-1148708B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38A8B-2214-4B38-A9FB-92C57634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B5897-5977-4CD7-82D5-6582D0BC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46514-7108-48A6-9219-7CFA0162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C5AE9-6E78-492D-A6AC-08A82CDF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F2D45-F413-484F-B2D9-2AA0D91D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CF7F-4DDA-4F8D-8B4E-09689FC7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6F51C-BC83-4E3F-A083-3FC6BC23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71E13-39FC-4033-88E9-7B560B18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851EF-422F-4F5E-A922-79AF6998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FA14F-9726-461B-85B4-0830CD8D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744E9-F43C-445A-A84B-18BE26EB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BEDCD-4806-4560-B81B-6E0BAEDF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98FBE-E823-4606-887F-EA89B2C1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8F614-9AEB-475D-86D8-4AC987A7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FD735-9682-44B5-8B97-B2B8F29E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4F3A4-12F3-4ADF-A8CA-38FEFBED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C456-C272-42DC-9924-9C58D6689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F918-EA58-4E17-9FBF-F92BE1CDE4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0156-D23A-4D29-84F2-71A38015BB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C78D-3D0F-4DC5-B8FC-FBCD580E41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D497-16F0-40BA-9546-E88FE6FE22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2E0B-114F-4782-A024-B615598718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1F30-0B08-4E88-932D-B41CB7D058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FE57-AAD1-40D5-9120-F752DBE612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1AF4-B627-41DB-9210-A1B86A4FA8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E37D-1DBA-47B5-923D-455D7E5B52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7673-42D9-467F-800E-09D4EB0CFE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E98A-235A-46E4-B421-8943D5BF2D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1092-875C-4799-B059-6342AF33DB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204C-BB82-410D-BE68-41D9E341CD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B355-EB32-4632-87A9-0485261DD0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9174-0166-4F2B-ABF0-0907B25220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51BF-A24F-4632-9ECF-FE6A87D83E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0FB4-210F-4BAF-B0D7-F18C9E7CE8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76B5-2FFF-4F87-AF06-900DCC84A1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16F5-1976-403B-9C26-AF22323AC5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2B3B-B7B2-49A8-B05B-0857F84ABF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BC99-7850-4493-84BD-6CCBEFC33B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8066-7A9C-49B3-9D01-9CE893FD73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56D2-CC62-4307-9F1E-55F8C1C5BA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FC90-B282-4A80-BC37-CC70D503EB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196C-0042-4160-A09A-E173FBA13D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43BA-1A5C-48B5-9B61-7D209F3193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0BAB-76A0-4FB8-BC31-B6B3D9C69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87C8-DD9A-48D5-BBE7-0E499A3DE2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274A-974E-4291-A742-BCF5209114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F4F0-2A65-466F-BA92-998FB245B1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8F79-94D7-4972-A28B-26D016314D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77FE-DFDB-43F5-86CE-2A78965FA4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6EB2-1A2A-4EBD-91CA-EBF04B9186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496F-7178-435B-9D1D-1F6B88CF7A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D4B1-1423-4549-9808-654DC95832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0763-B2C5-4237-A284-37F24FDC88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8CFB-1E1B-444E-B782-4F1DB8FB17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EDD8-E9CF-47DB-87E4-A8214CCAB6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724F-BE9F-455B-8B3A-E5C2C5D374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1371600" y="3129120"/>
            <a:ext cx="640080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343080" y="1023840"/>
            <a:ext cx="8458200" cy="56199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2"/>
          <a:stretch/>
        </p:blipFill>
        <p:spPr>
          <a:xfrm>
            <a:off x="285840" y="3664080"/>
            <a:ext cx="6215040" cy="4237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3"/>
          <a:stretch/>
        </p:blipFill>
        <p:spPr>
          <a:xfrm>
            <a:off x="285840" y="4179960"/>
            <a:ext cx="6215040" cy="4237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4"/>
          <a:stretch/>
        </p:blipFill>
        <p:spPr>
          <a:xfrm>
            <a:off x="285840" y="4797360"/>
            <a:ext cx="6215040" cy="762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5"/>
          <a:stretch/>
        </p:blipFill>
        <p:spPr>
          <a:xfrm>
            <a:off x="285840" y="5668920"/>
            <a:ext cx="6215040" cy="4240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6"/>
          <a:stretch/>
        </p:blipFill>
        <p:spPr>
          <a:xfrm>
            <a:off x="285840" y="6180120"/>
            <a:ext cx="6215040" cy="4237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7"/>
          <a:stretch/>
        </p:blipFill>
        <p:spPr>
          <a:xfrm>
            <a:off x="6572160" y="3622680"/>
            <a:ext cx="2171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2" descr=""/>
          <p:cNvPicPr/>
          <p:nvPr/>
        </p:nvPicPr>
        <p:blipFill>
          <a:blip r:embed="rId1"/>
          <a:stretch/>
        </p:blipFill>
        <p:spPr>
          <a:xfrm>
            <a:off x="785880" y="852480"/>
            <a:ext cx="6924600" cy="40766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2"/>
          <a:stretch/>
        </p:blipFill>
        <p:spPr>
          <a:xfrm>
            <a:off x="266760" y="5438880"/>
            <a:ext cx="8448480" cy="9903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3"/>
          <a:stretch/>
        </p:blipFill>
        <p:spPr>
          <a:xfrm>
            <a:off x="285840" y="878040"/>
            <a:ext cx="8786880" cy="7095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4"/>
          <a:stretch/>
        </p:blipFill>
        <p:spPr>
          <a:xfrm>
            <a:off x="285840" y="176544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5"/>
          <a:stretch/>
        </p:blipFill>
        <p:spPr>
          <a:xfrm>
            <a:off x="285840" y="238752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6"/>
          <a:stretch/>
        </p:blipFill>
        <p:spPr>
          <a:xfrm>
            <a:off x="285840" y="30002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7"/>
          <a:stretch/>
        </p:blipFill>
        <p:spPr>
          <a:xfrm>
            <a:off x="285840" y="354024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8"/>
          <a:stretch/>
        </p:blipFill>
        <p:spPr>
          <a:xfrm>
            <a:off x="285840" y="4102200"/>
            <a:ext cx="878688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4" descr=""/>
          <p:cNvPicPr/>
          <p:nvPr/>
        </p:nvPicPr>
        <p:blipFill>
          <a:blip r:embed="rId1"/>
          <a:stretch/>
        </p:blipFill>
        <p:spPr>
          <a:xfrm>
            <a:off x="509760" y="914400"/>
            <a:ext cx="8124480" cy="58006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2"/>
          <a:stretch/>
        </p:blipFill>
        <p:spPr>
          <a:xfrm>
            <a:off x="285840" y="2530440"/>
            <a:ext cx="4929120" cy="4237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3"/>
          <a:stretch/>
        </p:blipFill>
        <p:spPr>
          <a:xfrm>
            <a:off x="285840" y="3051000"/>
            <a:ext cx="4929120" cy="4240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4"/>
          <a:stretch/>
        </p:blipFill>
        <p:spPr>
          <a:xfrm>
            <a:off x="285840" y="3603600"/>
            <a:ext cx="4929120" cy="4237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5"/>
          <a:stretch/>
        </p:blipFill>
        <p:spPr>
          <a:xfrm>
            <a:off x="285840" y="4097160"/>
            <a:ext cx="4929120" cy="4240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6"/>
          <a:stretch/>
        </p:blipFill>
        <p:spPr>
          <a:xfrm>
            <a:off x="285840" y="4648320"/>
            <a:ext cx="4929120" cy="4237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7"/>
          <a:stretch/>
        </p:blipFill>
        <p:spPr>
          <a:xfrm>
            <a:off x="285840" y="518940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8"/>
          <a:stretch/>
        </p:blipFill>
        <p:spPr>
          <a:xfrm>
            <a:off x="285840" y="571968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9"/>
          <a:stretch/>
        </p:blipFill>
        <p:spPr>
          <a:xfrm>
            <a:off x="285840" y="628020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10"/>
          <a:stretch/>
        </p:blipFill>
        <p:spPr>
          <a:xfrm>
            <a:off x="5256360" y="2440080"/>
            <a:ext cx="3381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Picture 3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7788240" cy="60008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2"/>
          <a:stretch/>
        </p:blipFill>
        <p:spPr>
          <a:xfrm>
            <a:off x="285840" y="73512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3"/>
          <a:stretch/>
        </p:blipFill>
        <p:spPr>
          <a:xfrm>
            <a:off x="285840" y="125424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4"/>
          <a:stretch/>
        </p:blipFill>
        <p:spPr>
          <a:xfrm>
            <a:off x="285840" y="176544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5"/>
          <a:stretch/>
        </p:blipFill>
        <p:spPr>
          <a:xfrm>
            <a:off x="285840" y="227484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6"/>
          <a:stretch/>
        </p:blipFill>
        <p:spPr>
          <a:xfrm>
            <a:off x="285840" y="28256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7"/>
          <a:stretch/>
        </p:blipFill>
        <p:spPr>
          <a:xfrm>
            <a:off x="285840" y="3387600"/>
            <a:ext cx="8786880" cy="6588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8"/>
          <a:stretch/>
        </p:blipFill>
        <p:spPr>
          <a:xfrm>
            <a:off x="285840" y="41799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9"/>
          <a:stretch/>
        </p:blipFill>
        <p:spPr>
          <a:xfrm>
            <a:off x="285840" y="4786200"/>
            <a:ext cx="8786880" cy="7732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10"/>
          <a:stretch/>
        </p:blipFill>
        <p:spPr>
          <a:xfrm>
            <a:off x="285840" y="57405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11"/>
          <a:stretch/>
        </p:blipFill>
        <p:spPr>
          <a:xfrm>
            <a:off x="285840" y="6323040"/>
            <a:ext cx="87868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2" descr=""/>
          <p:cNvPicPr/>
          <p:nvPr/>
        </p:nvPicPr>
        <p:blipFill>
          <a:blip r:embed="rId1"/>
          <a:stretch/>
        </p:blipFill>
        <p:spPr>
          <a:xfrm>
            <a:off x="357120" y="928800"/>
            <a:ext cx="8391600" cy="58006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3" descr=""/>
          <p:cNvPicPr/>
          <p:nvPr/>
        </p:nvPicPr>
        <p:blipFill>
          <a:blip r:embed="rId2"/>
          <a:stretch/>
        </p:blipFill>
        <p:spPr>
          <a:xfrm>
            <a:off x="6113520" y="3357720"/>
            <a:ext cx="2657520" cy="29905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3"/>
          <a:stretch/>
        </p:blipFill>
        <p:spPr>
          <a:xfrm>
            <a:off x="285840" y="3408480"/>
            <a:ext cx="5286240" cy="4237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4"/>
          <a:stretch/>
        </p:blipFill>
        <p:spPr>
          <a:xfrm>
            <a:off x="285840" y="3862440"/>
            <a:ext cx="5286240" cy="4237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5"/>
          <a:stretch/>
        </p:blipFill>
        <p:spPr>
          <a:xfrm>
            <a:off x="285840" y="4362480"/>
            <a:ext cx="5286240" cy="4237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6"/>
          <a:stretch/>
        </p:blipFill>
        <p:spPr>
          <a:xfrm>
            <a:off x="285840" y="4811760"/>
            <a:ext cx="5286240" cy="42372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7"/>
          <a:stretch/>
        </p:blipFill>
        <p:spPr>
          <a:xfrm>
            <a:off x="285840" y="5291280"/>
            <a:ext cx="5286240" cy="42372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4" descr=""/>
          <p:cNvPicPr/>
          <p:nvPr/>
        </p:nvPicPr>
        <p:blipFill>
          <a:blip r:embed="rId8"/>
          <a:stretch/>
        </p:blipFill>
        <p:spPr>
          <a:xfrm>
            <a:off x="285840" y="5791320"/>
            <a:ext cx="5286240" cy="4237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9"/>
          <a:stretch/>
        </p:blipFill>
        <p:spPr>
          <a:xfrm>
            <a:off x="285840" y="6300720"/>
            <a:ext cx="528624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Picture 2" descr=""/>
          <p:cNvPicPr/>
          <p:nvPr/>
        </p:nvPicPr>
        <p:blipFill>
          <a:blip r:embed="rId1"/>
          <a:stretch/>
        </p:blipFill>
        <p:spPr>
          <a:xfrm>
            <a:off x="814320" y="728640"/>
            <a:ext cx="7515360" cy="605808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2"/>
          <a:stretch/>
        </p:blipFill>
        <p:spPr>
          <a:xfrm>
            <a:off x="285840" y="754200"/>
            <a:ext cx="8786880" cy="126360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3"/>
          <a:stretch/>
        </p:blipFill>
        <p:spPr>
          <a:xfrm>
            <a:off x="285840" y="213192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4"/>
          <a:stretch/>
        </p:blipFill>
        <p:spPr>
          <a:xfrm>
            <a:off x="285840" y="261144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"/>
          <p:cNvPicPr/>
          <p:nvPr/>
        </p:nvPicPr>
        <p:blipFill>
          <a:blip r:embed="rId5"/>
          <a:stretch/>
        </p:blipFill>
        <p:spPr>
          <a:xfrm>
            <a:off x="285840" y="313200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6"/>
          <a:stretch/>
        </p:blipFill>
        <p:spPr>
          <a:xfrm>
            <a:off x="285840" y="357660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"/>
          <p:cNvPicPr/>
          <p:nvPr/>
        </p:nvPicPr>
        <p:blipFill>
          <a:blip r:embed="rId7"/>
          <a:stretch/>
        </p:blipFill>
        <p:spPr>
          <a:xfrm>
            <a:off x="285840" y="401472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4" descr=""/>
          <p:cNvPicPr/>
          <p:nvPr/>
        </p:nvPicPr>
        <p:blipFill>
          <a:blip r:embed="rId8"/>
          <a:stretch/>
        </p:blipFill>
        <p:spPr>
          <a:xfrm>
            <a:off x="285840" y="452592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" descr=""/>
          <p:cNvPicPr/>
          <p:nvPr/>
        </p:nvPicPr>
        <p:blipFill>
          <a:blip r:embed="rId9"/>
          <a:stretch/>
        </p:blipFill>
        <p:spPr>
          <a:xfrm>
            <a:off x="285840" y="501480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" descr=""/>
          <p:cNvPicPr/>
          <p:nvPr/>
        </p:nvPicPr>
        <p:blipFill>
          <a:blip r:embed="rId10"/>
          <a:stretch/>
        </p:blipFill>
        <p:spPr>
          <a:xfrm>
            <a:off x="285840" y="550548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11"/>
          <a:stretch/>
        </p:blipFill>
        <p:spPr>
          <a:xfrm>
            <a:off x="285840" y="6083280"/>
            <a:ext cx="878688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2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7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Picture 2" descr=""/>
          <p:cNvPicPr/>
          <p:nvPr/>
        </p:nvPicPr>
        <p:blipFill>
          <a:blip r:embed="rId1"/>
          <a:stretch/>
        </p:blipFill>
        <p:spPr>
          <a:xfrm>
            <a:off x="571680" y="714240"/>
            <a:ext cx="8001000" cy="600264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3" descr=""/>
          <p:cNvPicPr/>
          <p:nvPr/>
        </p:nvPicPr>
        <p:blipFill>
          <a:blip r:embed="rId2"/>
          <a:stretch/>
        </p:blipFill>
        <p:spPr>
          <a:xfrm>
            <a:off x="4857840" y="3929040"/>
            <a:ext cx="3706560" cy="27417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3"/>
          <a:stretch/>
        </p:blipFill>
        <p:spPr>
          <a:xfrm>
            <a:off x="285840" y="4014720"/>
            <a:ext cx="4429080" cy="425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4" descr=""/>
          <p:cNvPicPr/>
          <p:nvPr/>
        </p:nvPicPr>
        <p:blipFill>
          <a:blip r:embed="rId4"/>
          <a:stretch/>
        </p:blipFill>
        <p:spPr>
          <a:xfrm>
            <a:off x="285840" y="4454640"/>
            <a:ext cx="4429080" cy="4237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" descr=""/>
          <p:cNvPicPr/>
          <p:nvPr/>
        </p:nvPicPr>
        <p:blipFill>
          <a:blip r:embed="rId5"/>
          <a:stretch/>
        </p:blipFill>
        <p:spPr>
          <a:xfrm>
            <a:off x="285840" y="4933800"/>
            <a:ext cx="4429080" cy="4240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"/>
          <p:cNvPicPr/>
          <p:nvPr/>
        </p:nvPicPr>
        <p:blipFill>
          <a:blip r:embed="rId6"/>
          <a:stretch/>
        </p:blipFill>
        <p:spPr>
          <a:xfrm>
            <a:off x="285840" y="5362560"/>
            <a:ext cx="4429080" cy="4237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7"/>
          <a:stretch/>
        </p:blipFill>
        <p:spPr>
          <a:xfrm>
            <a:off x="285840" y="5811840"/>
            <a:ext cx="4429080" cy="4237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"/>
          <p:cNvPicPr/>
          <p:nvPr/>
        </p:nvPicPr>
        <p:blipFill>
          <a:blip r:embed="rId8"/>
          <a:stretch/>
        </p:blipFill>
        <p:spPr>
          <a:xfrm>
            <a:off x="285840" y="6251400"/>
            <a:ext cx="442908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4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9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Picture 1" descr=""/>
          <p:cNvPicPr/>
          <p:nvPr/>
        </p:nvPicPr>
        <p:blipFill>
          <a:blip r:embed="rId1"/>
          <a:stretch/>
        </p:blipFill>
        <p:spPr>
          <a:xfrm>
            <a:off x="785880" y="785880"/>
            <a:ext cx="7619760" cy="59310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" descr=""/>
          <p:cNvPicPr/>
          <p:nvPr/>
        </p:nvPicPr>
        <p:blipFill>
          <a:blip r:embed="rId2"/>
          <a:stretch/>
        </p:blipFill>
        <p:spPr>
          <a:xfrm>
            <a:off x="285840" y="78588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"/>
          <p:cNvPicPr/>
          <p:nvPr/>
        </p:nvPicPr>
        <p:blipFill>
          <a:blip r:embed="rId3"/>
          <a:stretch/>
        </p:blipFill>
        <p:spPr>
          <a:xfrm>
            <a:off x="285840" y="127476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4" descr=""/>
          <p:cNvPicPr/>
          <p:nvPr/>
        </p:nvPicPr>
        <p:blipFill>
          <a:blip r:embed="rId4"/>
          <a:stretch/>
        </p:blipFill>
        <p:spPr>
          <a:xfrm>
            <a:off x="285840" y="169380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5"/>
          <a:stretch/>
        </p:blipFill>
        <p:spPr>
          <a:xfrm>
            <a:off x="285840" y="21938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4" descr=""/>
          <p:cNvPicPr/>
          <p:nvPr/>
        </p:nvPicPr>
        <p:blipFill>
          <a:blip r:embed="rId6"/>
          <a:stretch/>
        </p:blipFill>
        <p:spPr>
          <a:xfrm>
            <a:off x="285840" y="264312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4" descr=""/>
          <p:cNvPicPr/>
          <p:nvPr/>
        </p:nvPicPr>
        <p:blipFill>
          <a:blip r:embed="rId7"/>
          <a:stretch/>
        </p:blipFill>
        <p:spPr>
          <a:xfrm>
            <a:off x="285840" y="314316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4" descr=""/>
          <p:cNvPicPr/>
          <p:nvPr/>
        </p:nvPicPr>
        <p:blipFill>
          <a:blip r:embed="rId8"/>
          <a:stretch/>
        </p:blipFill>
        <p:spPr>
          <a:xfrm>
            <a:off x="285840" y="364320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4" descr=""/>
          <p:cNvPicPr/>
          <p:nvPr/>
        </p:nvPicPr>
        <p:blipFill>
          <a:blip r:embed="rId9"/>
          <a:stretch/>
        </p:blipFill>
        <p:spPr>
          <a:xfrm>
            <a:off x="285840" y="4086360"/>
            <a:ext cx="8786880" cy="4251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4" descr=""/>
          <p:cNvPicPr/>
          <p:nvPr/>
        </p:nvPicPr>
        <p:blipFill>
          <a:blip r:embed="rId10"/>
          <a:stretch/>
        </p:blipFill>
        <p:spPr>
          <a:xfrm>
            <a:off x="285840" y="45975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4" descr=""/>
          <p:cNvPicPr/>
          <p:nvPr/>
        </p:nvPicPr>
        <p:blipFill>
          <a:blip r:embed="rId11"/>
          <a:stretch/>
        </p:blipFill>
        <p:spPr>
          <a:xfrm>
            <a:off x="285840" y="5110200"/>
            <a:ext cx="8786880" cy="7333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4" descr=""/>
          <p:cNvPicPr/>
          <p:nvPr/>
        </p:nvPicPr>
        <p:blipFill>
          <a:blip r:embed="rId12"/>
          <a:stretch/>
        </p:blipFill>
        <p:spPr>
          <a:xfrm>
            <a:off x="285840" y="6012000"/>
            <a:ext cx="8786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1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6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6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1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6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1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6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304920" y="857160"/>
            <a:ext cx="8534160" cy="58006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7943760" y="1357200"/>
            <a:ext cx="465120" cy="3970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7897680" y="5154480"/>
            <a:ext cx="46512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295200" y="909720"/>
            <a:ext cx="8553600" cy="57340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2"/>
          <a:stretch/>
        </p:blipFill>
        <p:spPr>
          <a:xfrm>
            <a:off x="7943760" y="1500120"/>
            <a:ext cx="465120" cy="3970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3"/>
          <a:stretch/>
        </p:blipFill>
        <p:spPr>
          <a:xfrm>
            <a:off x="7943760" y="3603600"/>
            <a:ext cx="465120" cy="3970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4"/>
          <a:stretch/>
        </p:blipFill>
        <p:spPr>
          <a:xfrm>
            <a:off x="7943760" y="5246640"/>
            <a:ext cx="46512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rcRect l="0" t="0" r="1495" b="0"/>
          <a:stretch/>
        </p:blipFill>
        <p:spPr>
          <a:xfrm>
            <a:off x="237960" y="716040"/>
            <a:ext cx="8537760" cy="61056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2"/>
          <a:stretch/>
        </p:blipFill>
        <p:spPr>
          <a:xfrm>
            <a:off x="7858080" y="1285920"/>
            <a:ext cx="465120" cy="3967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3"/>
          <a:stretch/>
        </p:blipFill>
        <p:spPr>
          <a:xfrm>
            <a:off x="7858080" y="2928960"/>
            <a:ext cx="46512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361800" y="1081080"/>
            <a:ext cx="8420400" cy="4695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2"/>
          <a:stretch/>
        </p:blipFill>
        <p:spPr>
          <a:xfrm>
            <a:off x="7943760" y="1785960"/>
            <a:ext cx="465120" cy="3967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3"/>
          <a:stretch/>
        </p:blipFill>
        <p:spPr>
          <a:xfrm>
            <a:off x="6143760" y="5286240"/>
            <a:ext cx="71424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324000" y="928800"/>
            <a:ext cx="8496000" cy="57150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2"/>
          <a:stretch/>
        </p:blipFill>
        <p:spPr>
          <a:xfrm>
            <a:off x="7143840" y="1563840"/>
            <a:ext cx="1000080" cy="3967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3"/>
          <a:stretch/>
        </p:blipFill>
        <p:spPr>
          <a:xfrm>
            <a:off x="2244600" y="6183360"/>
            <a:ext cx="46368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309600" y="1271520"/>
            <a:ext cx="8524800" cy="48006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2"/>
          <a:stretch/>
        </p:blipFill>
        <p:spPr>
          <a:xfrm>
            <a:off x="5857920" y="1785960"/>
            <a:ext cx="857160" cy="3967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3"/>
          <a:stretch/>
        </p:blipFill>
        <p:spPr>
          <a:xfrm>
            <a:off x="3214800" y="2286000"/>
            <a:ext cx="857160" cy="3967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4"/>
          <a:stretch/>
        </p:blipFill>
        <p:spPr>
          <a:xfrm>
            <a:off x="2428920" y="5572080"/>
            <a:ext cx="71424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366840" y="1824120"/>
            <a:ext cx="8410320" cy="3209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2"/>
          <a:stretch/>
        </p:blipFill>
        <p:spPr>
          <a:xfrm>
            <a:off x="2786040" y="4564080"/>
            <a:ext cx="85716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361800" y="1266840"/>
            <a:ext cx="8420400" cy="43243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2"/>
          <a:stretch/>
        </p:blipFill>
        <p:spPr>
          <a:xfrm>
            <a:off x="285840" y="291780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3"/>
          <a:stretch/>
        </p:blipFill>
        <p:spPr>
          <a:xfrm>
            <a:off x="285840" y="342900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4"/>
          <a:stretch/>
        </p:blipFill>
        <p:spPr>
          <a:xfrm>
            <a:off x="285840" y="394344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5"/>
          <a:stretch/>
        </p:blipFill>
        <p:spPr>
          <a:xfrm>
            <a:off x="285840" y="44751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6"/>
          <a:stretch/>
        </p:blipFill>
        <p:spPr>
          <a:xfrm>
            <a:off x="285840" y="5065560"/>
            <a:ext cx="878688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7:48:14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